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CCB-857A-468D-AC90-6EADFD31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9CB-6766-4E97-8A16-9D3DC40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CF0-C7E4-4843-9DE1-11C422FB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196-C271-4D8A-BE03-F5A3B171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F9EC-CFE2-42EC-960F-30494562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B31A-A2CE-43A1-970D-163C8A1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5DEB-9096-4EE7-A485-051B232F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6E4-530C-47EA-9C2C-D25E8CC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1D3A-889A-4FB7-9B1A-7779C3CE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B5D-FB0A-4BA5-BB65-A2B55BB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1E20-D43B-44C0-A1D8-01E81ED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9F0-2C27-44EE-997C-6E32B66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F854-D8DC-4677-AC49-1429778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D25C-9466-4623-BADD-CD35202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432C-8EBD-4B0C-B84B-624A53B5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5FE-E7DF-44E9-B99F-92E4689B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0774-8A96-4100-9D91-9BE8030D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4D5-536E-4DC9-A85B-1B941D55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D5F-E525-47AC-82FC-499EA94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287-6C58-4249-AA59-C4C334E4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A5A-DF19-4386-828C-CC2A6D5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B61-2814-4890-BA67-41B92A2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EE1-4B6B-4F62-9FBE-6B42529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BFC-7B88-46BF-A54D-38EF59B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3A6F-E44E-4F7A-B26B-5131A2370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5BD-A180-410A-B9E9-046EA9CC6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MSTIA 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2520" y="15429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42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7640" y="154296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amp; Ani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38520" y="154296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ing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18760" y="163512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228600" y="1447920"/>
            <a:ext cx="891540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at is the purpose of using the corner resizing handles to resize a graphi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To has access to Picture Tools while resizin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.To resize and recolor the graphic simultaneousl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.To incrementally resize the graphi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.To proportionately resize the graphi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2286000" y="301320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To proportionately resize the graphi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09480" y="1981080"/>
            <a:ext cx="719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erm refers to the size of the alphabetic and numeric characters on a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s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f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082880" y="2819520"/>
            <a:ext cx="323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Font siz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6920" y="1773360"/>
            <a:ext cx="89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Home Ribbon, which command is used to change the orientation of text in a text box to vertical, stacked or rot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dir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al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286000" y="281952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Dire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419040" y="1996920"/>
            <a:ext cx="79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 list on a slide must appear in sequential order, which list option should be selec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 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rdered 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28800" y="22096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umberin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90720" y="198108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ommand on the Home Ribbon enables a user to change the design of a slide after it has been inserted into a presentatio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3072240" y="3105000"/>
            <a:ext cx="301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80880" y="152388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feature automatically revises the typing errors based upon information contained in MS Office 2010’s standard dictiona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fi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Corr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Sp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AutoTex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380880" y="1143000"/>
            <a:ext cx="83059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ext alignment command aligns text with both the left and right margins of a slide including adding additional space between words as need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855000" y="2724120"/>
            <a:ext cx="346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52440" y="1066680"/>
            <a:ext cx="863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includes illustrations, movies, sounds, and stock photography stored in collections for easy access from both a user’s local machine and the Microsoft websi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290040" y="2590920"/>
            <a:ext cx="250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Clipar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80880" y="2041560"/>
            <a:ext cx="785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mmand is used to remove any unwanted parts of a picture in a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3515400" y="2271600"/>
            <a:ext cx="185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380880" y="1762200"/>
            <a:ext cx="825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an option offered on the Picture Tools Format Ribbon Color drop-down command for adjusting picture col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T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ma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sc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574360" y="2478240"/>
            <a:ext cx="4022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Color Ton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85800" y="195408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graphic is selected, which option on the Shortcut menu is used to alter the color of the im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and 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15560" y="3168720"/>
            <a:ext cx="518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Format Pictur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11600" y="3168720"/>
            <a:ext cx="437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utoCorrec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52280" y="1828800"/>
            <a:ext cx="88394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mmand enables a user to choose from a wide range of animation op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ni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 Pai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990720" y="2303640"/>
            <a:ext cx="71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nima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97000" y="1828800"/>
            <a:ext cx="859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print setting creates printouts of an entire slide on the top of the page and an area for speaker notes below the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Page 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652760" y="214488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Notes Page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8680" y="2057400"/>
            <a:ext cx="908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most common format that Microsoft uses for short sound clip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a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mp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mp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p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3057120" y="2130480"/>
            <a:ext cx="178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.wav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96880" y="1828800"/>
            <a:ext cx="849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aving a presentation that will be exported to Microsoft Word 2010, which file type should be selec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ppt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p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o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4045320" y="2666880"/>
            <a:ext cx="11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.rtf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80880" y="1219320"/>
            <a:ext cx="794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ype of presentation runs on its own but can also be set to accept user interventions to advance to another slide or return to a previous o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running 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rrated 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d 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64880" y="2101680"/>
            <a:ext cx="893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running presentation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5800" y="1319040"/>
            <a:ext cx="77724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ich of the following refers to rearranging a multilevel list of text in an outline format by moving it from one level to another in the presen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Promote and demo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Increase and decr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Grow and sh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Raise and l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380880" y="1143000"/>
            <a:ext cx="810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ype of slide show is created to display only selected slides during a presen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r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2837520" y="2590920"/>
            <a:ext cx="34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380880" y="182880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visual effects in the form of movements from one slide to another during a presentation call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2448720" y="2286000"/>
            <a:ext cx="441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5800" y="1066680"/>
            <a:ext cx="7961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area is used to specify the length of the transition effect for each slide in a presen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hear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214080" y="25146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u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3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990720" y="137160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erm refers to the small circles and squares that appear on each corner and side of an active text box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ment but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ing hand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but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ment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616840" y="2209680"/>
            <a:ext cx="530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izing handles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380880" y="99684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owerPoint 2010 Window, what is the name of the area that contains the zoom control and PowerPoint view butt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 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 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2155320" y="1981080"/>
            <a:ext cx="426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418320" y="2550960"/>
            <a:ext cx="75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 and demot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228600" y="914400"/>
            <a:ext cx="869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faint blue, dashed lines that appear as you drag an object toward a drawn shape when the edges or center of the object are align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Gu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d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 Gu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Gr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328400" y="2444760"/>
            <a:ext cx="629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Smart Guides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65240" y="800280"/>
            <a:ext cx="8762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name of the view in the File Tab that enables a user to manage files and data about files, and find frequently used features for managing PowerPoint presenta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is your team betting on this question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428280" y="24382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ackstag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5120" y="1295280"/>
            <a:ext cx="8958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include more text in a slide than will fit in the slide placeholder, which PowerPoint 2010 feature adjusts the line spacing and font size of the text to accommodate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S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Cor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En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4040" y="3168720"/>
            <a:ext cx="278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utoFi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4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80880" y="1295280"/>
            <a:ext cx="8153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terms refers to combining multiple objects into a single objec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ust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mb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539720" y="2611440"/>
            <a:ext cx="31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Groupe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ige Haney</cp:lastModifiedBy>
  <dcterms:modified xsi:type="dcterms:W3CDTF">2011-11-17T15:50:51Z</dcterms:modified>
  <cp:revision>151</cp:revision>
  <dc:subject/>
  <dc:title>Jeopardy</dc:title>
</cp:coreProperties>
</file>